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3DA-9334-46EB-BC9E-FCD6E12E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6F0-005B-4963-A535-7E55D1B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595-2DA9-411E-8EA1-8A955F28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BBE-6196-40A6-A4FA-97986818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855-36E9-46DD-B435-BC02386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A45-B486-4251-AAE8-852DFF4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1BA-EE78-4B09-BCC3-0F13C79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BF6-5A38-4E53-890D-AFCA16DE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537-8B4F-47BF-8066-FD536EE8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621-3B00-4F8D-ACCA-148BCD9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ABB-A970-44C5-9E1B-4B56077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1DF-A188-4C42-AE4C-03A337E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E3E9-A4B7-4A87-9E6F-430221603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Великая Отечественная война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истории моей семь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минус.mp3" descr=""/>
          <p:cNvPicPr/>
          <p:nvPr/>
        </p:nvPicPr>
        <p:blipFill>
          <a:blip r:embed="rId2"/>
          <a:stretch/>
        </p:blipFill>
        <p:spPr>
          <a:xfrm>
            <a:off x="12193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200400" y="1905120"/>
            <a:ext cx="5638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втор: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Захарова Мария, 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ниципального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общеобразовательного учреждения Новомалыклинской средней общеобразовате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мени Героя Советского Союза М.С. Чер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. Новая Малыкла Ульян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Ему повезло: вернулся домой живым, не был даже ранен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стойно воспитал 8 детей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 него 27 внуков, рождаются и растут правн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Одайкин С"/>
          <p:cNvPicPr/>
          <p:nvPr/>
        </p:nvPicPr>
        <p:blipFill>
          <a:blip r:embed="rId2"/>
          <a:srcRect l="0" t="0" r="0" b="25104"/>
          <a:stretch/>
        </p:blipFill>
        <p:spPr>
          <a:xfrm>
            <a:off x="304920" y="2819520"/>
            <a:ext cx="3541680" cy="38098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4" name="Picture 5" descr="Одайкин С"/>
          <p:cNvPicPr/>
          <p:nvPr/>
        </p:nvPicPr>
        <p:blipFill>
          <a:blip r:embed="rId3"/>
          <a:stretch/>
        </p:blipFill>
        <p:spPr>
          <a:xfrm>
            <a:off x="4191120" y="2819520"/>
            <a:ext cx="4647960" cy="3809880"/>
          </a:xfrm>
          <a:prstGeom prst="rect">
            <a:avLst/>
          </a:prstGeom>
          <a:ln w="34920">
            <a:solidFill>
              <a:srgbClr val="993300"/>
            </a:solidFill>
            <a:miter/>
          </a:ln>
        </p:spPr>
      </p:pic>
    </p:spTree>
  </p:cSld>
  <p:transition spd="slow" advTm="18000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5638320"/>
            <a:ext cx="89154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Они не думали об этом, они – воевали, мы, правнуки, не должны забы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8600" y="3886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«Все, что было не со мной, помню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4495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Говорят, что жить надо так, чтоб о тебе помнили семь покол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спользованные 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емейный арх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Подвиг на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Мемори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Фотохроника Великой Отечественной войны (бои за г. Шнайдемю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e8e8"/>
                </a:solidFill>
                <a:latin typeface="Monotype Corsiva"/>
              </a:rPr>
              <a:t>Я знаю о войне лишь понаслышке,    Но вновь и вновь в мои приходит сны Безусый паренёк, совсем мальчишка, Который не вернулся с той войны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8600"/>
            <a:ext cx="46479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адамин Николай Матвеевич – родной брат моего прадеда по папиной ли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одился в с. Старая Куликовка Новомалыклинского района Ульянов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феврале 1942 года, в неполных девятнадцать лет, был призван на военную службу Новомалыклинским РВК Ульян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Ладамин"/>
          <p:cNvPicPr/>
          <p:nvPr/>
        </p:nvPicPr>
        <p:blipFill>
          <a:blip r:embed="rId2"/>
          <a:stretch/>
        </p:blipFill>
        <p:spPr>
          <a:xfrm>
            <a:off x="380880" y="304920"/>
            <a:ext cx="3548160" cy="495288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</p:spTree>
  </p:cSld>
  <p:transition spd="slow" advTm="15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67080" y="3049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ладший лейтенант  Ладамин Н.М. был командиром взвода автоматчиков 1283 стрелкового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Участвовал в боях за города: Седелец, Варшаву, Ковель, Прагу – за что имеет благодарности от коман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398160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255276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209680" y="2286000"/>
            <a:ext cx="2382840" cy="3657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4343400" y="3191040"/>
            <a:ext cx="2562120" cy="36669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228600"/>
            <a:ext cx="8382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конце января полк, в котором служил Ладамин Н.М., вступил на территорию Герма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районе Шнайдемюля наши войска вели бои по уничтожению окружённого в городе гарнизона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ветские бойцы, действуя штурмовыми группами, выбили немцев из сильно укреплённых пози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шнайд1"/>
          <p:cNvPicPr/>
          <p:nvPr/>
        </p:nvPicPr>
        <p:blipFill>
          <a:blip r:embed="rId2"/>
          <a:stretch/>
        </p:blipFill>
        <p:spPr>
          <a:xfrm>
            <a:off x="3962520" y="2438280"/>
            <a:ext cx="5181480" cy="313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6" name="Picture 7" descr="шнайд"/>
          <p:cNvPicPr/>
          <p:nvPr/>
        </p:nvPicPr>
        <p:blipFill>
          <a:blip r:embed="rId3"/>
          <a:stretch/>
        </p:blipFill>
        <p:spPr>
          <a:xfrm>
            <a:off x="0" y="3774960"/>
            <a:ext cx="5486400" cy="30830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58672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Фотохроника войн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иридонов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 образцовое выполнение боевых заданий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9 сентября 1944 года приказом 60-стрелковой дивизии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7 армии награжден Орденом Красной Звез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НМ1-2"/>
          <p:cNvPicPr/>
          <p:nvPr/>
        </p:nvPicPr>
        <p:blipFill>
          <a:blip r:embed="rId2"/>
          <a:stretch/>
        </p:blipFill>
        <p:spPr>
          <a:xfrm rot="21109800">
            <a:off x="380880" y="1828800"/>
            <a:ext cx="6096240" cy="47116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0" name="Picture 10" descr="кр"/>
          <p:cNvPicPr/>
          <p:nvPr/>
        </p:nvPicPr>
        <p:blipFill>
          <a:blip r:embed="rId3"/>
          <a:stretch/>
        </p:blipFill>
        <p:spPr>
          <a:xfrm rot="932400">
            <a:off x="6172200" y="2819520"/>
            <a:ext cx="2590920" cy="2519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0880" y="304920"/>
            <a:ext cx="8382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феврале 1945 года в с. Новая Малыкла  Матвею Митрофановичу и Матрене Никифоровне принесли трагическое изве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аш сын лейтенант Ладамин Николай Матвеевич убит 8 февраля 1945 года. Похоронен: г. Шнайдемюль (Германия) западная окраина, перекресток дорог шоссейной и железной, западнее 100 метров»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му не исполнилось и 22-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 до победы оставалось ровно три месяц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048120" y="3089160"/>
            <a:ext cx="6095880" cy="3768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3" name="AutoShape 33"/>
          <p:cNvSpPr/>
          <p:nvPr/>
        </p:nvSpPr>
        <p:spPr>
          <a:xfrm>
            <a:off x="380880" y="1066680"/>
            <a:ext cx="8458200" cy="1067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 flipH="1">
            <a:off x="5790960" y="2133720"/>
            <a:ext cx="2895480" cy="1676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0400" y="37335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Одайкин С"/>
          <p:cNvPicPr/>
          <p:nvPr/>
        </p:nvPicPr>
        <p:blipFill>
          <a:blip r:embed="rId2"/>
          <a:stretch/>
        </p:blipFill>
        <p:spPr>
          <a:xfrm>
            <a:off x="5943600" y="228600"/>
            <a:ext cx="293220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80880" y="45720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дайкин Семен Васильевич (год рождения – 1909) – второй прадед по папин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шел на войну в марте 1942 года, оставив семью и четверых 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 мирное время – крестьянин-колхозник, на войне – связист-проволочник артиллерийских частей, телефонист штабной батареи 2-ого гвардейского стрелкового корпуса с марта 1942 по октябрь 194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военный билет 1"/>
          <p:cNvPicPr/>
          <p:nvPr/>
        </p:nvPicPr>
        <p:blipFill>
          <a:blip r:embed="rId3"/>
          <a:stretch/>
        </p:blipFill>
        <p:spPr>
          <a:xfrm>
            <a:off x="0" y="3124080"/>
            <a:ext cx="3227400" cy="1582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9" name="Picture 10" descr="военный билет 2"/>
          <p:cNvPicPr/>
          <p:nvPr/>
        </p:nvPicPr>
        <p:blipFill>
          <a:blip r:embed="rId4"/>
          <a:stretch/>
        </p:blipFill>
        <p:spPr>
          <a:xfrm>
            <a:off x="1981080" y="3809880"/>
            <a:ext cx="3306960" cy="169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0" name="Picture 11" descr="военный билет 3"/>
          <p:cNvPicPr/>
          <p:nvPr/>
        </p:nvPicPr>
        <p:blipFill>
          <a:blip r:embed="rId5"/>
          <a:stretch/>
        </p:blipFill>
        <p:spPr>
          <a:xfrm>
            <a:off x="3733920" y="4724280"/>
            <a:ext cx="3227400" cy="16527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1" name="Picture 12" descr="военный билет 4"/>
          <p:cNvPicPr/>
          <p:nvPr/>
        </p:nvPicPr>
        <p:blipFill>
          <a:blip r:embed="rId6"/>
          <a:stretch/>
        </p:blipFill>
        <p:spPr>
          <a:xfrm>
            <a:off x="5921280" y="5240160"/>
            <a:ext cx="3222720" cy="1617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2000">
    <p:strips dir="l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май 44"/>
          <p:cNvPicPr/>
          <p:nvPr/>
        </p:nvPicPr>
        <p:blipFill>
          <a:blip r:embed="rId2"/>
          <a:stretch/>
        </p:blipFill>
        <p:spPr>
          <a:xfrm>
            <a:off x="0" y="0"/>
            <a:ext cx="4367160" cy="6858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3" name="WordArt 11"/>
          <p:cNvSpPr txBox="1"/>
          <p:nvPr/>
        </p:nvSpPr>
        <p:spPr>
          <a:xfrm>
            <a:off x="152280" y="56386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 боевыми друзьями.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дайкин С.В. первый слева.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й 1944 год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7150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граж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343400" y="762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рденом               Красной Звезды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93433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858000" y="2971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    «За отвагу»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143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72000" y="4952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«За победу над Германией» (12.11.194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кр"/>
          <p:cNvPicPr/>
          <p:nvPr/>
        </p:nvPicPr>
        <p:blipFill>
          <a:blip r:embed="rId3"/>
          <a:stretch/>
        </p:blipFill>
        <p:spPr>
          <a:xfrm>
            <a:off x="6629400" y="838080"/>
            <a:ext cx="2028960" cy="197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9" name="Picture 19" descr="за победу над германией"/>
          <p:cNvPicPr/>
          <p:nvPr/>
        </p:nvPicPr>
        <p:blipFill>
          <a:blip r:embed="rId4"/>
          <a:stretch/>
        </p:blipFill>
        <p:spPr>
          <a:xfrm>
            <a:off x="7086600" y="4114800"/>
            <a:ext cx="1447920" cy="2438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80" name="Picture 20" descr="за отвагу"/>
          <p:cNvPicPr/>
          <p:nvPr/>
        </p:nvPicPr>
        <p:blipFill>
          <a:blip r:embed="rId5"/>
          <a:stretch/>
        </p:blipFill>
        <p:spPr>
          <a:xfrm>
            <a:off x="4800600" y="2209680"/>
            <a:ext cx="1335240" cy="2590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30000">
    <p:strips dir="l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12-26T07:34:2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